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A51-28E1-45C8-923B-93F9814E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CDD-8612-4F7D-B23C-173C428C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C55-BFAC-4320-905D-2564B10E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325-7826-418A-8380-E2466575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2DD-96B3-4EA7-9706-BCF86A94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79F-3E11-4B9E-BCB7-4F9AF600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CE1-7B2E-4D38-A05E-263DC57B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AC1-4308-4E7D-8572-F22B9C36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224-D539-4AF0-8B72-8A8B76B5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49A-5C8D-443F-8CA8-B6CF891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7D0-11BC-4B0A-89C0-01035A46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E6B-87F6-43EB-A379-DFF5BA34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AAD8-364E-4F05-B68B-64EC16BC116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OO  /  EN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OO + ADJECTIVE/ADVER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CESSIVE (more than necessa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s jacket i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oo expensiv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I’m not going to buy it. No way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oo cold 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o go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wimming. Let’s go to the cinema inste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e test wa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oo difficul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I don’t  think I’ll p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ou ar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oo young 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o go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o a disco. You must be 18 to get 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e on! You ar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oo old 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o ride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e Merry-Go-Rou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00720" y="1534680"/>
            <a:ext cx="4186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JECTIVE/ADVERB + EN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U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ou are not working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hard enough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If you don’t study more, you won’t pass your te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e is not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all enough 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o be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 the basketball te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 will never b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rich enough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Calibri"/>
              </a:rPr>
              <a:t>to bu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at ho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e on! You are not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small enough 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o get through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at hole. You will never reach the other s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0:13:57Z</dcterms:created>
  <dc:creator>JOSU</dc:creator>
  <dc:description/>
  <dc:language>en-US</dc:language>
  <cp:lastModifiedBy>JOSU</cp:lastModifiedBy>
  <dcterms:modified xsi:type="dcterms:W3CDTF">2014-02-18T20:47:14Z</dcterms:modified>
  <cp:revision>4</cp:revision>
  <dc:subject/>
  <dc:title>Diapositiva 1</dc:title>
</cp:coreProperties>
</file>